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20356"/>
        <c:axId val="94419073"/>
      </c:barChart>
      <c:catAx>
        <c:axId val="96220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19073"/>
        <c:crosses val="autoZero"/>
        <c:auto val="1"/>
        <c:lblAlgn val="ctr"/>
        <c:lblOffset val="100"/>
        <c:noMultiLvlLbl val="0"/>
      </c:catAx>
      <c:valAx>
        <c:axId val="94419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20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1DE-5F50-45E2-9837-F0FA0A7F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648-A92B-455F-B6E7-8DE4DB32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42B-884B-4DBA-9B1C-60F07FFB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6F7-3F7D-4E3A-BA3D-92C506F0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7F5-C436-4E5D-9EE0-B9EFCD73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623-2595-4166-8018-61F470EF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83E-EE63-46FD-9F1A-B2AC3093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121-1028-4A87-8FB7-86B0881A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761-00D0-4F2F-829F-07E56B5C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396-5696-4814-91EE-1CA7D8B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098-A00F-4D79-B8F2-45D74464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6C1-BE7F-468F-BC45-0F5BAF1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BC693-206C-46BF-B334-2E3BB12207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