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51531"/>
        <c:axId val="14259535"/>
      </c:barChart>
      <c:catAx>
        <c:axId val="41551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9535"/>
        <c:crosses val="autoZero"/>
        <c:auto val="1"/>
        <c:lblAlgn val="ctr"/>
        <c:lblOffset val="100"/>
        <c:noMultiLvlLbl val="0"/>
      </c:catAx>
      <c:valAx>
        <c:axId val="14259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1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4DC-D1A8-4608-99B4-C1AA18C9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9D1-BD2A-4143-9F7B-B7C9E4B9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769-0690-408B-9839-1614FA1B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0C2-D4D1-48A3-B87D-C7F30689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515-11B2-4DB2-B9EC-4351176D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398-11F2-42E3-ADE7-9E4EC814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149-8AA8-43BA-BB7C-5C4458F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361-31D7-44B8-96C8-7B3DE813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F2E-5CD4-4F8B-9FD8-4CF8BC37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69E-F6AB-4A5B-AB5F-A22EDA8D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E34-D296-4317-A17A-D57DEEEC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E6A-A02D-45D3-9975-FFC1B5A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56F5D-EC6C-4EDA-9678-8864961F8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