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365113"/>
        <c:axId val="34935064"/>
      </c:barChart>
      <c:catAx>
        <c:axId val="983651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35064"/>
        <c:crosses val="autoZero"/>
        <c:auto val="1"/>
        <c:lblAlgn val="ctr"/>
        <c:lblOffset val="100"/>
        <c:noMultiLvlLbl val="0"/>
      </c:catAx>
      <c:valAx>
        <c:axId val="349350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651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0BC1-8662-4D06-804C-925BD33E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35F7-D41E-47DB-856F-671A1311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E261-A446-4E48-996C-536C2E894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9206-DAE3-42AF-B5DB-DECAA3E4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99EC-FC7D-4A58-B199-9EC29764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8CBE-9698-41CB-B6F1-9B58E5A3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10BF-3223-4982-A8F6-FE628232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E5C5-CE78-4075-A73B-E0F963DB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0D01-61B1-4004-B8CC-420B3C72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2F5C-107C-4F42-89E4-FA2FD121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066F-63C7-4637-BED1-35845836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B4A5-CD7B-46FE-B1E4-8A8FD5FD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88C0B-03AD-4C4B-B304-3E508E6521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