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98845"/>
        <c:axId val="14023614"/>
      </c:barChart>
      <c:catAx>
        <c:axId val="22198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23614"/>
        <c:crosses val="autoZero"/>
        <c:auto val="1"/>
        <c:lblAlgn val="ctr"/>
        <c:lblOffset val="100"/>
        <c:noMultiLvlLbl val="0"/>
      </c:catAx>
      <c:valAx>
        <c:axId val="14023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98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5FC-21BE-4C6E-AD52-23F6DB17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467-1DC1-4E20-AB0F-249F27D5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9B8-4AD5-4124-89E6-8B1FC472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60F-6DF4-4626-9750-ECA0A340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CED-C520-4BE0-A9A2-CBA9A927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DD1-CD1E-4017-BAAE-F56A32D5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12F-15A1-4A91-831D-0F94F556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029-D9A8-4ABC-8655-14FC96F0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F87-4073-43A2-8B1D-71D14AEE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C70-FA4D-44B2-96E1-123A49AB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9D9-0D43-4D49-A138-AF1E7C79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4FF-6229-443B-8481-BF98D1F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51E9B-C935-46AF-BA97-EE7C1F829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