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26384"/>
        <c:axId val="23451687"/>
      </c:barChart>
      <c:catAx>
        <c:axId val="38726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51687"/>
        <c:crosses val="autoZero"/>
        <c:auto val="1"/>
        <c:lblAlgn val="ctr"/>
        <c:lblOffset val="100"/>
        <c:noMultiLvlLbl val="0"/>
      </c:catAx>
      <c:valAx>
        <c:axId val="23451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26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999-66FA-4712-8A24-D5211470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484-F0DD-4481-BB3A-CCBC9215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A20-D26A-4DDA-978C-3F488348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31E-8AB5-43B4-BF54-E0CF4874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6A1-69F6-411D-85D7-2B55D2B3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99F-2FAD-44A9-9497-2F5E0F9C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E34-CC9D-4C69-879D-C5F538EB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D6E-B9D8-414E-B0EF-ED687890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3ED-E5C6-4ED3-9022-D2406BE3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73B-FC84-4266-A8AB-8318DC59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951-32AE-4A75-8BA7-BB8FD1F9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252-7FA1-4324-8666-245BD182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82455-EC42-4EC3-831E-084F926E8E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