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66925"/>
        <c:axId val="85352835"/>
      </c:barChart>
      <c:catAx>
        <c:axId val="60266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52835"/>
        <c:crosses val="autoZero"/>
        <c:auto val="1"/>
        <c:lblAlgn val="ctr"/>
        <c:lblOffset val="100"/>
        <c:noMultiLvlLbl val="0"/>
      </c:catAx>
      <c:valAx>
        <c:axId val="85352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66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FB6-8D81-4F9E-ADD0-72AD770B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CCB-FAD0-47F8-B4CE-08133DA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43B-5C74-4DED-9493-AA4A1FEB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F81-5F62-4033-88AC-09E5A351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A33-A514-4153-9CDB-8D9C022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6E0-12BB-44DE-8B18-BB81949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1BA-F25D-4798-8F2E-6DEC4FB5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7F4-6659-4E39-A43B-C1801D76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386-2D9B-4A33-B97B-69897B8D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06D-CD23-402F-9D78-272B396E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F34-6B1B-42D5-B14F-CBA9542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C0E-B70A-4F28-9F85-18C8C62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742FD-0223-4503-829B-5A8ED01F5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