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7882807"/>
        <c:axId val="38071773"/>
      </c:barChart>
      <c:catAx>
        <c:axId val="9788280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071773"/>
        <c:crosses val="autoZero"/>
        <c:auto val="1"/>
        <c:lblAlgn val="ctr"/>
        <c:lblOffset val="100"/>
        <c:noMultiLvlLbl val="0"/>
      </c:catAx>
      <c:valAx>
        <c:axId val="3807177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88280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058E-B7B7-4DB2-B059-4554AC0F3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A811-BCBF-4D46-9A4E-05F7B24BF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1A98-D336-4A8F-923D-6E01899A2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E8F3-B994-41B5-9664-E9C1B422D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5DFF-7064-40EE-BA14-F91DDDA9C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5125-BA4D-4452-ABCA-F87E0B850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9D76-6D69-45D8-AEBC-18AA79DCC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DE36-395D-46F2-92C8-C9BD18C57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8C86-4795-4920-8440-057FBDB01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04E6-ABA2-4EB6-9F15-9FDB4D70C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3A63-82BC-4625-B58A-402C80EF6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F42D-9FF5-423D-8F16-1F53FFA2D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D6D40E-8877-4313-AB04-A0C3032E105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