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17942"/>
        <c:axId val="60404636"/>
      </c:barChart>
      <c:catAx>
        <c:axId val="899179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04636"/>
        <c:crosses val="autoZero"/>
        <c:auto val="1"/>
        <c:lblAlgn val="ctr"/>
        <c:lblOffset val="100"/>
        <c:noMultiLvlLbl val="0"/>
      </c:catAx>
      <c:valAx>
        <c:axId val="604046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179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F422-7168-4ACE-86AC-882B483F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75C8-69A9-4844-9D3B-E7800830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FA75-299F-47C8-8308-87522B04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1203-3313-496D-835E-85058BF2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065-47D4-43B1-9FBF-6E0564A7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F53B-9BD9-46EA-80DB-EEB7D8C6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4A55-173B-49A1-93EC-A826B4A2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8692-483F-4C0A-9963-6136143D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F81-FC82-4C2B-920F-C78F706C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89FC-0A1E-42E2-BAD2-0C0207FD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EF1-79F4-405C-874B-FD90440E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CA76-9D3A-42FB-A622-859F0AE0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19F8D-25F4-4011-A9BC-18D99814D7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