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21534"/>
        <c:axId val="60393435"/>
      </c:barChart>
      <c:catAx>
        <c:axId val="41215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393435"/>
        <c:crosses val="autoZero"/>
        <c:auto val="1"/>
        <c:lblAlgn val="ctr"/>
        <c:lblOffset val="100"/>
        <c:noMultiLvlLbl val="0"/>
      </c:catAx>
      <c:valAx>
        <c:axId val="603934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215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CEBC-174C-4218-A13E-28F74BC6E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4077-3477-4FE8-9B05-11014CFFE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2AC8-A537-4B87-B56B-87A429B09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4B60-7C71-4DEB-929B-2BBB9AA60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96E4-01C7-426A-BEB6-373AF5B24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3F10-9101-4532-B78E-B59CD7CAA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A840-1D80-490E-B5F0-3F530C587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67FA-4DF3-4D24-8FED-479195CC1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10BF-2FF2-4376-AD0D-25D6C9793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EE52-4987-49D2-90E1-D98EB396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F4B0-5180-47E9-92C6-AC9AE9C3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4481-4049-4A5B-BBA8-AA168222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A5F801-03A7-440F-AF16-4C1C9E2A361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