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58305"/>
        <c:axId val="48004509"/>
      </c:barChart>
      <c:catAx>
        <c:axId val="267583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04509"/>
        <c:crosses val="autoZero"/>
        <c:auto val="1"/>
        <c:lblAlgn val="ctr"/>
        <c:lblOffset val="100"/>
        <c:noMultiLvlLbl val="0"/>
      </c:catAx>
      <c:valAx>
        <c:axId val="480045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583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AA9F-76F5-41F9-9072-ED093DD0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12A-062D-4B3D-AC1E-7EF6401C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24D-281F-45FF-B00C-1C01907A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696A-905F-4D67-8B77-4601B0CF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7A8-BF68-41EE-8A27-D6CB33EB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CC38-A413-4625-9341-F7D1289C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01B5-FA6C-4FA0-98E0-3D43E019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E1FE-B406-42F4-A488-EDD99748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F2A4-D637-4124-84F3-399B4C48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2E6-812C-4706-A5CB-49D36511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88A5-02F9-496C-B3C0-95DB8110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AB3-48FA-482B-AF2A-136D52F9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57CB8-DB23-47D4-A568-B1B5BE9657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