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28216"/>
        <c:axId val="22644927"/>
      </c:barChart>
      <c:catAx>
        <c:axId val="52828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44927"/>
        <c:crosses val="autoZero"/>
        <c:auto val="1"/>
        <c:lblAlgn val="ctr"/>
        <c:lblOffset val="100"/>
        <c:noMultiLvlLbl val="0"/>
      </c:catAx>
      <c:valAx>
        <c:axId val="22644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28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D49-33C7-435A-A283-A0FD90F4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1D0-88F4-48F0-8172-3971FCE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0A5-5AF8-48F6-BF90-C6065105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1BE-8D97-4536-89F2-240F478C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770-5826-4EA3-89D0-8FFA67E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CDE-9994-4F79-8361-8C780077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14D-B89D-43B4-A2E3-AE57B87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B7B-BA31-40E5-9EDE-6F09122C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398-D1CC-4AB6-87F3-EAE6486C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C81-715A-4A67-A7FB-8630DA2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6A9-4C89-4EAA-8F95-121D06F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E80-171E-4655-BB72-A30F430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5A079-08D8-49E7-8D11-6A77D33934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