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58186"/>
        <c:axId val="56752063"/>
      </c:barChart>
      <c:catAx>
        <c:axId val="32758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52063"/>
        <c:crosses val="autoZero"/>
        <c:auto val="1"/>
        <c:lblAlgn val="ctr"/>
        <c:lblOffset val="100"/>
        <c:noMultiLvlLbl val="0"/>
      </c:catAx>
      <c:valAx>
        <c:axId val="56752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58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F7D-5902-4FED-9B6A-869BD3AA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06F-5852-4E7F-A324-E241D794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254-841A-45B2-9A7F-F4C7A72B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1C3-84D6-47AE-923B-AD01097A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B15-4543-4467-BE34-02A5E6E4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66D-1FCB-4349-B4FC-C989B5D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A29-68D4-4E22-B10B-0FB15EE3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441-E123-4F2A-891E-C021D6B9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15F-D7DC-4912-B5EF-807EFB4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389-B773-47D8-9175-046DDEF0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F96-0E17-4367-A2D7-EF65D35E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28A-22EB-452F-819C-7BEE1487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4C4D1-E8D5-4FA8-94A4-720D808066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