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8614"/>
        <c:axId val="95157369"/>
      </c:barChart>
      <c:catAx>
        <c:axId val="8508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57369"/>
        <c:crosses val="autoZero"/>
        <c:auto val="1"/>
        <c:lblAlgn val="ctr"/>
        <c:lblOffset val="100"/>
        <c:noMultiLvlLbl val="0"/>
      </c:catAx>
      <c:valAx>
        <c:axId val="95157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8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7916-CE03-48F3-B8D6-F1D89168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4B7-1DC0-4B44-A1A4-DE126DEE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F23-1BC3-42D5-BA71-D7C59C3C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E95-0635-410C-9657-C8358F84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6D9-CCD0-4703-BEFA-0F0B63AC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C27-6EDB-49C0-A3A6-DD122917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37A-610A-46B7-A568-787B4FCD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BC49-178D-4125-AD1F-8B39E448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49B5-75BE-460B-9200-10DBB856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06D-3243-490B-93CF-8D4B9F79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B07F-629C-455C-A00F-77882F58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2A1-5BB2-4486-82C6-A8387052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ADC11-71FE-4153-BFA4-392352A7E5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