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38151"/>
        <c:axId val="1008337"/>
      </c:barChart>
      <c:catAx>
        <c:axId val="28138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8337"/>
        <c:crosses val="autoZero"/>
        <c:auto val="1"/>
        <c:lblAlgn val="ctr"/>
        <c:lblOffset val="100"/>
        <c:noMultiLvlLbl val="0"/>
      </c:catAx>
      <c:valAx>
        <c:axId val="1008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8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B65-6871-4F0A-93E6-D3DB043B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C92-CDA5-46AF-93E3-0A9FC70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F17-D186-4618-8807-44D7A5F5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A9F-184B-48D7-A6AD-D659AE20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139-BA46-4686-9A8C-C3CF298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763-C54B-43C4-95E2-4E7956B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033-134B-4F34-A0ED-6F0F479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EAF-3DBF-4D84-A31E-B3B4A85C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3E0-7D61-4660-93AA-F7EBF2C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69A-0051-4DEC-80C2-4FBB3D9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496-D1C1-4637-A1ED-E7BFA17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53C-703E-4426-A13C-0CAAD8E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B9448-281F-491C-80F9-7BF0ED230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