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89105"/>
        <c:axId val="33167101"/>
      </c:barChart>
      <c:catAx>
        <c:axId val="40289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67101"/>
        <c:crosses val="autoZero"/>
        <c:auto val="1"/>
        <c:lblAlgn val="ctr"/>
        <c:lblOffset val="100"/>
        <c:noMultiLvlLbl val="0"/>
      </c:catAx>
      <c:valAx>
        <c:axId val="33167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89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A70-1920-4283-9FD0-98FB3BF1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539F-5ED0-4617-AA77-3C9A2A0D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21F-BDF5-4E9B-8A36-5AB1D584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538-E6A4-4A67-A06E-F62BA5B5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82B-7BD7-4317-B87F-C13FCFC9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9AF-8FCC-4A7C-8AA7-A7655E97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409-2B5C-4A03-87B0-FC8B17C6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97E8-CFDB-4218-A28F-81D2241A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91E-8784-41A3-8619-F427EC9B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153-2D92-4EF9-8E83-0BFC9DC4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4F4-79F9-490F-A9A1-2CA39009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035-697C-4580-BFB3-794F6E6A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9B66F-ED98-4F8D-8974-05E6777E81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