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643427"/>
        <c:axId val="75352704"/>
      </c:barChart>
      <c:catAx>
        <c:axId val="956434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352704"/>
        <c:crosses val="autoZero"/>
        <c:auto val="1"/>
        <c:lblAlgn val="ctr"/>
        <c:lblOffset val="100"/>
        <c:noMultiLvlLbl val="0"/>
      </c:catAx>
      <c:valAx>
        <c:axId val="753527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6434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D7BC-7BE5-4B16-AD27-8EDE827ED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63B1-D39F-4619-A160-32DEBA08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19EF-1BA5-4894-BF82-B81FF04D2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6784-CDD3-4448-B46B-972772F92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7FF4-3DD4-478B-9C93-E4ED0183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DE33-AEA0-471F-88D9-A9AE3E9E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6303-0247-4660-8051-0AE4427C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AE80-3EBB-4016-AADE-40114943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0CAA-54C6-4529-8A27-E4C9C85C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EAAC-BD94-4369-AF51-CDA19FB2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8CFD-9F14-4EC4-AAD4-95A33A97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BB24-693D-4DC7-9C0C-ABA35B1B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7C4C12-9C64-4F22-886E-B2DADFACBC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