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4770081"/>
        <c:axId val="72752860"/>
      </c:barChart>
      <c:catAx>
        <c:axId val="1477008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752860"/>
        <c:crosses val="autoZero"/>
        <c:auto val="1"/>
        <c:lblAlgn val="ctr"/>
        <c:lblOffset val="100"/>
        <c:noMultiLvlLbl val="0"/>
      </c:catAx>
      <c:valAx>
        <c:axId val="7275286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77008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717A6-AAED-46C0-A2E4-D3E2D5F39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69AA0-99B5-4420-9D54-F3F79A0DE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14B0A-8BAE-440D-BB9D-3A5356839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779D4-5D22-474D-B67B-5100B53C2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CBF84-87AA-407A-B9DC-5EB233C97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6C4A8-93AE-491C-953A-820A1D41C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BAB76-52E5-468A-930A-096C20D6C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B11A4-D382-4238-B8E8-C49F2C40C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6EC26-A707-46DB-8179-5992E53F0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D0088-8207-42AF-97E9-94159FA54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7D225-068A-4DBF-9279-4199C4E53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4518C-5AA0-4739-AC9A-B8CB468A0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18B8D2-F625-4620-B813-E30263533E0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