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80155"/>
        <c:axId val="68436295"/>
      </c:barChart>
      <c:catAx>
        <c:axId val="7538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6295"/>
        <c:crosses val="autoZero"/>
        <c:auto val="1"/>
        <c:lblAlgn val="ctr"/>
        <c:lblOffset val="100"/>
        <c:noMultiLvlLbl val="0"/>
      </c:catAx>
      <c:valAx>
        <c:axId val="68436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8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3E5-63F1-4A29-9EE1-BEFF22AF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0D5-81B4-4125-A901-36AB2A3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05D-A8EE-43B2-9630-78A64D2F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DB1-62E3-41ED-8CC1-2ECA8858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00F-951C-4AE7-9624-E137589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006-0E51-477C-A398-644CB03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F56-E123-4149-ADED-E66FD4A6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8F1-7081-4B51-AC71-BAEB814F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FF2-E724-46AA-A666-ED02B0B5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E01-6089-4068-978F-8EF2E75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9C3-9193-4187-964D-F9AA84C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37B-5A36-48AA-936A-427840C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E961F-2842-40C0-B830-7A31F2B836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