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64843"/>
        <c:axId val="25061178"/>
      </c:barChart>
      <c:catAx>
        <c:axId val="63764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61178"/>
        <c:crosses val="autoZero"/>
        <c:auto val="1"/>
        <c:lblAlgn val="ctr"/>
        <c:lblOffset val="100"/>
        <c:noMultiLvlLbl val="0"/>
      </c:catAx>
      <c:valAx>
        <c:axId val="25061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64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23A-CD04-4536-AD2F-5BE7E991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850-C08C-4CC2-A2FF-A64AF0A3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5F8-BD52-43CA-9C24-C4FA0230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4FC-79EF-4240-9827-23DCA940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FBE-9E31-4068-B2CF-8D93A05B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100-03D2-4FA3-A020-3EA828DB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B35-62B8-419B-A2E3-43C3A191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79D-4948-4AE0-8A29-E1C83A57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9A9-E2AB-4EF0-A9C5-285D5BAA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020-3D7D-4A77-A99D-1F068D50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F4E-9766-4F45-A5EF-18BA961B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450-B9C9-4E5C-BEA3-0714B338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16E81-7B05-4D44-AFE6-C0C3B71FBE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