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40527"/>
        <c:axId val="44087298"/>
      </c:barChart>
      <c:catAx>
        <c:axId val="91340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87298"/>
        <c:crosses val="autoZero"/>
        <c:auto val="1"/>
        <c:lblAlgn val="ctr"/>
        <c:lblOffset val="100"/>
        <c:noMultiLvlLbl val="0"/>
      </c:catAx>
      <c:valAx>
        <c:axId val="44087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0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663-80C3-42A3-AD65-245328C1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80D-2B07-49D3-9EAF-9238B09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1E7-E26C-4C8E-8416-A6D9EAB4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C27-5786-4E14-A6EE-638CE87F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5B6-AC87-4CF0-B775-87D7ACED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AAF-409B-407E-A55E-1CF4C1F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443-1184-449B-9283-188E2A54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780-D0F2-4921-B26D-FB078E41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A4F-2C20-4192-9437-6EDD06F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5A2-6275-43F8-B561-8849DDF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E21-3F26-49FF-B36B-C90D722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411-080B-4B2E-A1EF-01F78B60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CE720-D911-4D65-BD62-13A3756823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