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4852"/>
        <c:axId val="49990399"/>
      </c:barChart>
      <c:catAx>
        <c:axId val="66434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0399"/>
        <c:crosses val="autoZero"/>
        <c:auto val="1"/>
        <c:lblAlgn val="ctr"/>
        <c:lblOffset val="100"/>
        <c:noMultiLvlLbl val="0"/>
      </c:catAx>
      <c:valAx>
        <c:axId val="49990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4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04F-1EA0-406D-ABB0-1E07014D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FF7-1644-487F-8E17-465C375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6F5-6EE5-41F4-A515-D8AFBFDD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0E5-C9C0-486F-9578-5F466A0A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FCA-449E-4064-A36B-5ADC82D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C25-5D45-4101-B161-9926AC8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332-6E9F-446F-B4ED-0515EDC5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8A8-0728-4DB1-90AE-016D0BFB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80B-5CB7-42FF-89D3-C9B121A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767-069F-49EC-A2D9-D728992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A85-43DB-4022-B97D-BA3B237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E1-75FC-45AE-9333-F09DDCD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71C3-0225-4806-BD18-2648A98856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