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67944"/>
        <c:axId val="73428808"/>
      </c:barChart>
      <c:catAx>
        <c:axId val="93567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8808"/>
        <c:crosses val="autoZero"/>
        <c:auto val="1"/>
        <c:lblAlgn val="ctr"/>
        <c:lblOffset val="100"/>
        <c:noMultiLvlLbl val="0"/>
      </c:catAx>
      <c:valAx>
        <c:axId val="73428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7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6F0-E9DB-4BCD-8E22-C5763E90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9DD-CDAC-4BBC-9391-187DCDE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346-91D4-4B69-8C74-14D9AF60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F70-6486-454F-A40C-91660FFE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E5C-976B-4D10-AA65-46C28D6D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40A-264A-48AA-89DE-18045A6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5EA-9D07-42CB-9E47-A15EE62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F83-D9D1-4835-A33E-966731D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BF5-37E9-4865-9F09-E66EAC79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59C-3039-47C8-821A-301ACEE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85B-01DB-491E-9F04-DD3C52E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D74-04B8-4596-BA1D-ABDFBB67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3AC3-C97D-4E89-A530-4C8DDB8A52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