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10449"/>
        <c:axId val="33606740"/>
      </c:barChart>
      <c:catAx>
        <c:axId val="82410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6740"/>
        <c:crosses val="autoZero"/>
        <c:auto val="1"/>
        <c:lblAlgn val="ctr"/>
        <c:lblOffset val="100"/>
        <c:noMultiLvlLbl val="0"/>
      </c:catAx>
      <c:valAx>
        <c:axId val="33606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10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CE7-6A9B-4189-ABB5-78104371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510-7367-4221-806E-AB13D39C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A1E-60B8-4108-8209-80096E58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2A0-247F-4A9D-BD21-BA2A0C12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DD1-7B8C-47B8-BBA6-851CFAF4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3D1-E999-4EDF-AFE6-9A79F928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714-735A-449E-B948-903FCC92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64C-DBED-4299-A581-8F0DA682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BDC-E064-4F26-B381-85AC6000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461-BC3E-4816-9EF2-6585E737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E29-9D6F-426C-8732-E7D9C59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B67-E7CC-4EE9-AF8A-5024844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B30BC-1E33-473A-98FF-67E8E090ED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