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732077"/>
        <c:axId val="84825142"/>
      </c:barChart>
      <c:catAx>
        <c:axId val="56732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25142"/>
        <c:crosses val="autoZero"/>
        <c:auto val="1"/>
        <c:lblAlgn val="ctr"/>
        <c:lblOffset val="100"/>
        <c:noMultiLvlLbl val="0"/>
      </c:catAx>
      <c:valAx>
        <c:axId val="84825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32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B2C-4148-4F4C-8DB9-199C296A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797-D162-442E-9DC2-A83F41F3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BA1-590D-4865-B38E-A67AA9BD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366-BFF9-4F1C-9D22-FE3E619D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D2C-69B6-4D3F-B0A5-6C7929A1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E04-F39C-4B71-87D5-F24EE3A3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6A0-DEA8-46E5-BE98-5FD3427A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575-3BBF-4749-A9E3-5F9BE2E0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245-B8F2-457A-A255-A7B1FEC5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92C-69CE-416B-BEB6-9958FF08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65F-0119-42F2-B299-5C2D4DB1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133-618C-4CF5-8C06-6EAA700E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51BEC-8475-4A89-85E7-65DC7EFB39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