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19866"/>
        <c:axId val="25829371"/>
      </c:barChart>
      <c:catAx>
        <c:axId val="34319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9371"/>
        <c:crosses val="autoZero"/>
        <c:auto val="1"/>
        <c:lblAlgn val="ctr"/>
        <c:lblOffset val="100"/>
        <c:noMultiLvlLbl val="0"/>
      </c:catAx>
      <c:valAx>
        <c:axId val="25829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19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FE6-0347-44FD-A31C-7BA3E5C3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482-8B7B-4DAF-B82F-D80C35A5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DC5-A8F4-4B95-AF14-66225A08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0F7-0FAC-464E-84D9-7CB11D38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17C-8E83-4664-82DF-DC6A2A20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A04-C509-4CB0-83A8-35D84DC1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27F-B035-44BB-99B6-50925434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D60-6221-485B-BB06-0FD87348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DB2-28AF-4769-9B18-F50B7C01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33F-4BD6-4D28-9BFE-6ECEF5EA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675-54B2-431F-AD60-72501524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A17-37BA-41F0-9F5C-9169062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1CAC3-B64E-43AA-9E67-51149180CD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