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67137"/>
        <c:axId val="39582187"/>
      </c:barChart>
      <c:catAx>
        <c:axId val="97967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82187"/>
        <c:crosses val="autoZero"/>
        <c:auto val="1"/>
        <c:lblAlgn val="ctr"/>
        <c:lblOffset val="100"/>
        <c:noMultiLvlLbl val="0"/>
      </c:catAx>
      <c:valAx>
        <c:axId val="39582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67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A62-8AFD-4AD3-873E-F3192221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87E-3FB3-4512-90FC-45BA64A2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D2A-3B9C-4BE5-9D14-F5DAEB31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EF1-A6C4-4827-9A19-3F51465F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E6F-CE8D-4F8C-A73D-63E97DA2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3FE-1FC0-4F10-8DB4-825B3D43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66A-F612-4563-BA90-5ADC9E86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298-7F97-4B19-8EE3-8830689F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D9C-2F6D-4601-AB5E-F2A59454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AEE-408D-4A4D-A6E7-73A76668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11D-885F-4AD0-87B3-16472F9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637-D609-4582-B3D5-2A09F38A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0DECE-1D01-4DB7-A692-0E2F4CA14E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