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03191"/>
        <c:axId val="5899414"/>
      </c:barChart>
      <c:catAx>
        <c:axId val="13403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9414"/>
        <c:crosses val="autoZero"/>
        <c:auto val="1"/>
        <c:lblAlgn val="ctr"/>
        <c:lblOffset val="100"/>
        <c:noMultiLvlLbl val="0"/>
      </c:catAx>
      <c:valAx>
        <c:axId val="5899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03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1BA-EC60-497C-B719-1B8A647E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11D-377F-4F12-92B6-A2DA7636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4CE-8F73-41D8-9D6C-DCD8060F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01A-B908-4BF0-AE2E-6248E0EC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2E7-AB51-49FE-B704-5A463A4B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181-24A3-4D53-A757-53564B41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C58-94CB-4347-B679-64DC6840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032-E020-432F-98F0-C0A9C9F4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49C-5EE9-4D0B-B4F4-2A26B2E6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D21-E984-406D-8A6D-8B2CE7B5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15B-1D8A-4A57-8F24-B092823C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DE3-EC39-404D-AE23-7BA2128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84486-32A3-402F-90C4-4BA2AD2245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