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85946"/>
        <c:axId val="3001808"/>
      </c:barChart>
      <c:catAx>
        <c:axId val="79285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1808"/>
        <c:crosses val="autoZero"/>
        <c:auto val="1"/>
        <c:lblAlgn val="ctr"/>
        <c:lblOffset val="100"/>
        <c:noMultiLvlLbl val="0"/>
      </c:catAx>
      <c:valAx>
        <c:axId val="3001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85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954-5430-42DB-BEAF-4E2C07F4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9A3-9CB1-4EC8-BB22-658B19A0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F89-4EBD-4341-BBFA-069314DD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E9B-1E7E-4CE9-8BEA-B8DF085E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F14-3057-474A-AB4E-23181F71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533-7D6F-4C4E-9919-0AC9D45F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A20-0B2B-42F8-95D2-E6EF3268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176-C733-4B46-AA95-98BEBC86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56D-B72E-4A5E-8806-06C17D55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BCE-B79C-4BAB-92D5-68134345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ED8-2B52-4E29-AA31-637D703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3FD-582F-4A20-ACEE-5C7EDC0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9BF2E-8B2E-4597-9CEF-A3C2D853A7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