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89600"/>
        <c:axId val="95696315"/>
      </c:barChart>
      <c:catAx>
        <c:axId val="72589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96315"/>
        <c:crosses val="autoZero"/>
        <c:auto val="1"/>
        <c:lblAlgn val="ctr"/>
        <c:lblOffset val="100"/>
        <c:noMultiLvlLbl val="0"/>
      </c:catAx>
      <c:valAx>
        <c:axId val="95696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89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622-5402-4F0A-B543-0CB66B95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0F6-E06D-4554-85FB-6AD9DAF8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088-11BD-4999-B57C-18E01CAC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59A-D0CB-488A-A1AD-4D2EF5F8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76C-0745-490E-81DF-F05A2B8E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A7F-FCAC-4C33-A29B-79258994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3D1-29EF-485E-A09E-0E82A2B3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041-C277-424E-BD38-75D9E33F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41D-CA1A-4FD4-9D95-D50533EC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D3F-A666-4C26-B820-F289DE58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718-8E8D-4514-8F4C-7A5FACCA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2AC-530F-4508-9C0F-76A50B64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8945E-46B3-4D95-B758-949A9C6CF1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