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841244"/>
        <c:axId val="89779026"/>
      </c:barChart>
      <c:catAx>
        <c:axId val="248412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79026"/>
        <c:crosses val="autoZero"/>
        <c:auto val="1"/>
        <c:lblAlgn val="ctr"/>
        <c:lblOffset val="100"/>
        <c:noMultiLvlLbl val="0"/>
      </c:catAx>
      <c:valAx>
        <c:axId val="897790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412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F48C-7706-4274-B2D1-0A0F70B5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DA9C-7513-419A-981B-30C023FD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C750-D973-4830-979D-0A5E43D3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5E84-3400-4D5C-B1A6-81CC4C4B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AB72-AD33-4553-ADF6-00122EF7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92F5-0CD2-44A8-9528-B25D4FBA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237-C287-4745-A10E-2BBED227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006-2A94-4BB4-8EF7-94853D85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0900-87FD-4E1B-B064-D466ECCA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A182-C35C-4D71-95C6-CFF93DE2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2B96-F6DE-462C-869B-130FB986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B950-8619-4B6B-8BE6-1A299453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3C286-2649-42E7-AD1D-BB607EAB8D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