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34899"/>
        <c:axId val="78079209"/>
      </c:barChart>
      <c:catAx>
        <c:axId val="86634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9209"/>
        <c:crosses val="autoZero"/>
        <c:auto val="1"/>
        <c:lblAlgn val="ctr"/>
        <c:lblOffset val="100"/>
        <c:noMultiLvlLbl val="0"/>
      </c:catAx>
      <c:valAx>
        <c:axId val="78079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34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F5A-F2B6-4FC0-AFE7-B710371E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714-6163-4E50-8B4E-32E29C4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BEC-BAD4-4B9D-BB0D-FCCA9085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F75-272B-48FF-8AC5-A9EF93AF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194-8611-49BE-99D2-C0B7523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30C-D140-4B29-81C0-68EE328E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DCF-73C2-4729-AD33-00BAAE9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07E-80FA-4741-A3C8-D2278242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8C4-FDBA-48C8-9832-2038BCF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55E-14E0-4B54-8638-38B5C77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609-2C26-47FC-B4B6-DF720B2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7BA-FBA0-490C-B520-C23BB37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49AC0-4ADC-4BF4-88B4-B2832A66BE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