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93427"/>
        <c:axId val="72385376"/>
      </c:barChart>
      <c:catAx>
        <c:axId val="57193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85376"/>
        <c:crosses val="autoZero"/>
        <c:auto val="1"/>
        <c:lblAlgn val="ctr"/>
        <c:lblOffset val="100"/>
        <c:noMultiLvlLbl val="0"/>
      </c:catAx>
      <c:valAx>
        <c:axId val="72385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93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3A2-D87F-4559-A22F-A09D6712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C4E-7954-482B-A05D-166AE3CD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070-19E3-434D-BEFE-F41A26C8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3BA-7369-40E4-BE1F-666B0907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5FC-8A3B-4AFD-A67C-952D17AB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66E-AFEF-4D2D-B96B-EC965D25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1B2-82A3-4DF8-B963-1AB13879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3EC-472E-41F6-9067-CED00247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6F3-578D-4935-8247-1A5DD92D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1C0-096D-4B8D-BB2F-37382A9F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70B-3B05-41F5-A3E4-2BD29D2D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C2B-98E1-4657-92EF-5BD2EC21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1FC32-0A15-46AE-AF5C-A8EB57E4B4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