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391483"/>
        <c:axId val="15831058"/>
      </c:barChart>
      <c:catAx>
        <c:axId val="583914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31058"/>
        <c:crosses val="autoZero"/>
        <c:auto val="1"/>
        <c:lblAlgn val="ctr"/>
        <c:lblOffset val="100"/>
        <c:noMultiLvlLbl val="0"/>
      </c:catAx>
      <c:valAx>
        <c:axId val="158310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914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06A1-C91E-481A-8154-40D2CEB0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27DB-581B-4D16-98C8-E9AEBA8B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34F-85E2-412F-8DF8-0D1D1D79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E144-2D1B-4568-8654-5B875883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AED1-8683-4D9B-A74D-23E2A129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7B30-711D-46F9-B249-3AB812A9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F467-2AE1-45F4-8A80-E8D3B8C8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A63E-70BE-4E06-835D-26BF7B08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FDD8-65F7-432D-9360-4EC3F882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E1E1-AF19-4A8C-87B2-3A5D326D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08BD-B031-4593-91DE-15DA27E2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3179-5990-479D-BFE1-439518D3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FAB95-2A6A-41E4-8574-962703FA3F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