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5029"/>
        <c:axId val="59138922"/>
      </c:barChart>
      <c:catAx>
        <c:axId val="88250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38922"/>
        <c:crosses val="autoZero"/>
        <c:auto val="1"/>
        <c:lblAlgn val="ctr"/>
        <c:lblOffset val="100"/>
        <c:noMultiLvlLbl val="0"/>
      </c:catAx>
      <c:valAx>
        <c:axId val="59138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50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1E9-A3FA-4559-981A-D420B13A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391-A0B9-47EB-B0D7-35057B94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660-DCF1-43C6-A702-D27D6D49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8BA-9923-4B1D-A6DC-0F52D95C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A63-F2FA-4BD8-9022-185C6C69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B38-D7E4-4F3D-9FBF-8310CB9B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9BC-0DAF-4CE5-849D-F4D8B68B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F8F-0D9F-4318-9345-1D3823CD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DE8-E6BF-4B2C-8679-F5D10BE4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F25-810F-47EE-8E96-87595722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34B-75D1-4218-87FC-3ED1DF8D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C70-8E3F-4C7F-B9DE-54FF4BEF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5A2B5-6237-4AF6-A272-E5A3F35D06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