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852438"/>
        <c:axId val="84180926"/>
      </c:barChart>
      <c:catAx>
        <c:axId val="578524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180926"/>
        <c:crosses val="autoZero"/>
        <c:auto val="1"/>
        <c:lblAlgn val="ctr"/>
        <c:lblOffset val="100"/>
        <c:noMultiLvlLbl val="0"/>
      </c:catAx>
      <c:valAx>
        <c:axId val="841809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8524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913F-B63E-4281-ACDE-23498E7F6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D581-212B-4E3F-AC51-524AD332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CCB1-9FDA-4A98-BA7B-D938625C1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8CAD-10A5-4492-BBAC-CC06E193A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86B7-F632-4B32-AB29-EC2EA1B7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22CD-3606-46A1-AA3A-3940E8C8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5D93-A887-43FD-BF05-68487CC2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F39D-C1F5-4EBF-856B-02EE0843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21E9-0A18-4E5C-A905-FA77804E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1EAB-518E-4F89-BC32-1C3D707E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DAA7-DB98-4A04-A938-12D3A525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8055-904D-450B-9FCC-84235DB3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F53ED-D189-4A37-8BA4-973DF01FFE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