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089759"/>
        <c:axId val="40215596"/>
      </c:barChart>
      <c:catAx>
        <c:axId val="208975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0215596"/>
        <c:crosses val="autoZero"/>
        <c:auto val="1"/>
        <c:lblAlgn val="ctr"/>
        <c:lblOffset val="100"/>
        <c:noMultiLvlLbl val="0"/>
      </c:catAx>
      <c:valAx>
        <c:axId val="4021559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8975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84E74-BB9F-4D32-AB00-662DA5E08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5F5A0-0AF5-4B80-97AF-BF3653691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B143A-211E-4389-9796-7E2DE1A77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A9428-59C8-4CF3-9B2E-D17CEC805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51A5C-0911-4C78-ADC9-28A1CD0DE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D1185-7A2C-41DD-B317-69E07A51C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D7A6D-511A-41A9-9984-57B66DCE4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A2702-BC9A-4954-9D0B-B7AE36BEF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41CCC-DDD7-43B2-927E-5FEAE46A0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1E051-524C-4129-936B-A84D81F38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9E21F-74C1-4AAC-B9BD-F0DBB628A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CDBFB-E6E3-4ED1-A140-3B129F730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C16EB6-B11B-4196-8E4C-33E81F52BC0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